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61A-0364-4D25-B3FE-B605D1AC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2B7-A623-417D-B3D1-1EA691F1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56B-55DE-4191-ABB1-46C554B4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79F-4D60-40C1-AB4D-C5363A1F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66C3-23F0-4A6A-A56E-DD323874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4880-3EC6-457A-A1D1-D8D248D5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10D0-71E4-4FFD-8951-033542D0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2C00-B160-43AC-9117-793F42C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3F1A-0E20-4F05-BC2F-17341F17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BCC1-E8FE-495A-ADF0-04904AC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493E-6A4F-4C3F-96B8-342E0CF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7CA-09B3-4A23-A730-822671C2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178-3758-4082-B871-602C940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4E06-5D15-44B4-87B6-DE14146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5D15-DFEF-40A9-A969-C7AA3954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EB8A-D973-4B4E-86E6-CBA54462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2200-8449-486C-879D-3BFF3DF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6A4-AD7E-47C0-AB3A-808C1CC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EB9-BB96-4A53-9E56-F3E5E2B4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E57-2E5A-4313-80B4-8BC7C29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61F-5B56-4841-88D5-B523A03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38A-BF25-482E-A2F6-CCEAAE9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D76-0E2C-4F0A-BF26-31CFE7B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D60-D9DB-41E0-BA6A-5DC3083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1637-18D1-4314-A8A1-1042361C3FA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BF14-2E1C-48CF-A9BD-E5EF7E650E6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d6"/>
                </a:solidFill>
                <a:latin typeface="Arial Black"/>
              </a:rPr>
              <a:t>Patrick kle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d6"/>
                </a:solidFill>
                <a:latin typeface="Arial Black"/>
              </a:rPr>
              <a:t>A peri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45720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is vacaiones de mico!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333960" cy="22194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590920" y="685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i Hote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819520" cy="2121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581280" y="1752480"/>
            <a:ext cx="4953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Dear,m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el hotel que me voy a quedar en el es muy agradable! Tengo una habitación muy bonita y grande! Tengo un Telivision, mi propia cocina, y un baño muy grande con una ducha completa! Me gustaría que estuvieras aquí para ver esto! que le gustaría.</a:t>
            </a:r>
            <a:br>
              <a:rPr sz="1800"/>
            </a:b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  su hijo- Patrick Klein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09320" y="761760"/>
            <a:ext cx="5715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f273e"/>
                </a:solidFill>
                <a:latin typeface="Arial Black"/>
              </a:rPr>
              <a:t>lo que h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stimados, Miles</a:t>
            </a:r>
            <a:br>
              <a:rPr sz="3200"/>
            </a:b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Hoy he ido a la playa, y se fue en el agua. El agua estaba muy caliente! Yo también fui tomar el sol! Me quemé porque no uso locion bronceadora! Pero aparte de eso im pasando muy bien!</a:t>
            </a:r>
            <a:br>
              <a:rPr sz="3200"/>
            </a:b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Su amigo Patri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1240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52280" y="2133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stimado Elioma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Engravers MT"/>
              </a:rPr>
              <a:t>Hoy he ido de compras! Me compré un sombrero mexicano! También tuve unos tacos bien cuando yo estaba fuera. que eran delicioso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57680" cy="1685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19160" cy="1879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819160" cy="2781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505320" y="685800"/>
            <a:ext cx="510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 Condensed"/>
              </a:rPr>
              <a:t>Mi segundo dio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 Condensed"/>
              <a:ea typeface="Gill Sans Ultra Bold Condensed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99"/>
                </a:solidFill>
                <a:latin typeface="Script MT Bold"/>
              </a:rPr>
              <a:t>De cuatro día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l tiempo hoy era lluvioso. Yo no hice nada. Me alojé en el hotel todo el día y comer una deliciosa comida! Me había servicio de habitaciones. Luego me fui por la ciudad buscando somthing que hace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276720" cy="2097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ad6"/>
                </a:solidFill>
                <a:latin typeface="Arial Black"/>
              </a:rPr>
              <a:t>El</a:t>
            </a:r>
            <a:r>
              <a:rPr b="0" lang="es-ES" sz="4400" spc="-1" strike="noStrike">
                <a:solidFill>
                  <a:srgbClr val="000ad6"/>
                </a:solidFill>
                <a:latin typeface="Arial Black"/>
              </a:rPr>
              <a:t> día 6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A: Mamá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Hoy en día el clima fue estupendo! Conocí a un chico llamado Jeremy! que es muy cool. nos fuimos a las tiendas y se reunió con algunas chicas allí! Así que terminamos saliendo con ellos para mi último día! im gonna miss México! nos vemos pronto!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3:13Z</dcterms:created>
  <dc:creator>kleinpat</dc:creator>
  <dc:description/>
  <dc:language>en-US</dc:language>
  <cp:lastModifiedBy>kleinpat</cp:lastModifiedBy>
  <dcterms:modified xsi:type="dcterms:W3CDTF">2011-11-30T17:06:28Z</dcterms:modified>
  <cp:revision>7</cp:revision>
  <dc:subject/>
  <dc:title>Slide 1</dc:title>
</cp:coreProperties>
</file>